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F12E95-149A-4853-AA88-A02E9FDEDCA2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6A7-2FDC-4339-B151-B410E56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90B-CAF4-42FF-90E1-46BFBC0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6C9-565D-4D19-8975-8C24C36C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89B-9060-41B8-9449-00F3BB0A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AB6-DB93-4CFC-9CF0-A226EC8F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5E3E-576F-44AD-9147-F2150078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5179-0D2E-432D-988E-37C97BD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049-D1D5-4B2B-9831-7FAD7CCF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CB62-030C-4835-9D00-3BF5E45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159-8F58-4D9E-A44D-9DE406F2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980-9B36-4EAA-A744-A6FFAFD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902-9F37-4D84-9A41-7ED8BD3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46FC-74E8-44A1-8737-E827E86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A21-B823-4C97-9542-AFAFA3A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4D67-6E05-486C-8316-9425E61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CCA-FC0A-43BC-9445-272C207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536-B72E-4511-814A-C7BA7EDC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605-BB60-4A13-9345-3BC4B02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DEB-01BF-4F0E-87AD-EB0452F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C8D-2AB2-4B23-8707-D080E5C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BA1-D4CA-458A-896F-DDEF757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935-FCF8-4C10-ACB1-E898146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2B5-3E16-4722-B7D6-3ACF16A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B0B-E80F-4825-8C51-24F9A29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693-2DFD-4C9D-8EA8-A6FD05F7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C432-CF1A-4E98-922F-A7184757C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history.sandiego.edu/gen/ww1/images/bike03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의 사회적 구성</a:t>
            </a:r>
            <a:br>
              <a:rPr sz="4800"/>
            </a:b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Social Construction of Technology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‘사용’에서의 사회적 구성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산돌고딕B"/>
              </a:rPr>
              <a:t>1920-30</a:t>
            </a:r>
            <a:r>
              <a:rPr b="0" lang="zh-CN" sz="3000" spc="-1" strike="noStrike">
                <a:solidFill>
                  <a:srgbClr val="000000"/>
                </a:solidFill>
                <a:latin typeface="산돌고딕B"/>
              </a:rPr>
              <a:t>년대 미국 농촌에서의 자동차의 사용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6360" y="2708280"/>
            <a:ext cx="3887640" cy="324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5472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ST vs. 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기술의 사회적 형성론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생산자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자본가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의 정치적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경제적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이데올로기적 요소 강조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정치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을 통한 인간의 통제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사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철학은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그 정치성을 폭로해야 함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정치적 의도를 구현한 기술은 영속적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200" y="1483920"/>
            <a:ext cx="3889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기술의 사회적 구성론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사용자를 포함한 관련 사회집단이 다양함을 강조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해석적 유연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인간에 의한 기술의 구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해석적 유연성을 통해 기술의 대안 가능성을 보여주어야 함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종결된 기술은 비가역적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ST &amp; 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ST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와 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COT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은 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1980-1990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년대에 걸쳐 논쟁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현재 둘이 명확하게 구분되는 것은 아님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둘 모두 기술이 기술 내적인 논리에 의해서가 아니라 사회적 영향 하에서 발전한다는 점 강조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의 생산자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사용자를 포함한 여러 요소가 기술 선택에 영향을 미침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COT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에 대한 비판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관련 사회집단은 모두 동등한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생산자와 소비자의 상이한 영향력 존재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생산자가 수사적 종결을 만들어낼 가능성 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‘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종결’이 진정한 ‘종결’인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대응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다양한 정도의 ‘종결’ 가능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모든 기술에 해석적 유연성이 존재하는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랭던 위너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원자폭탄은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”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기술의 사회적 구성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공물을 둘러싼 관련사회집단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엔지니어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다양한 소비자 집단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 alpha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공물에 대한 서로 다른 문제점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하나의 문제에 대한 다양한 해결책 가능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산돌고딕 M"/>
              </a:rPr>
              <a:t>기술의 해석적 유연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 다선적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multidirectional)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진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은 승리한 기술로의 단선적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필연적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전 아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변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해석적 유연성에 의한 다양한 대안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+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경쟁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들 사이의 해석 차이와 갈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+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선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종결 및 안정화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[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히 사회적인 방식으로 종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]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의 방향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내용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 결과가 사회적으로 구성됨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Social Construction of Technology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자전거의 발전 사례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일반적으로 아래의 순서로 발전했다고 알려짐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59236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pennyfarthing"/>
          <p:cNvPicPr/>
          <p:nvPr/>
        </p:nvPicPr>
        <p:blipFill>
          <a:blip r:embed="rId3"/>
          <a:stretch/>
        </p:blipFill>
        <p:spPr>
          <a:xfrm>
            <a:off x="3492360" y="2637000"/>
            <a:ext cx="2381400" cy="278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3357720"/>
            <a:ext cx="2916360" cy="1804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86720" y="5659560"/>
            <a:ext cx="58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oneshaker                                     Pennyfarthing                       Lawson’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4581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450864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32000" y="2421000"/>
            <a:ext cx="309564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300720" y="2492280"/>
            <a:ext cx="257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07" name=""/>
          <p:cNvSpPr/>
          <p:nvPr/>
        </p:nvSpPr>
        <p:spPr>
          <a:xfrm>
            <a:off x="6092640" y="29376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러한 단선적인 발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대신에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4078080" cy="410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11480" y="3317760"/>
            <a:ext cx="24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Pennyfarthing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서 다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단계로의 발전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미리 결정되어 있었던 것이 아님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44654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4842000" cy="659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0" y="245124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앞바퀴가 높은 자전거의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여성 의상 문제의 한가지 해결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888880" y="3749760"/>
            <a:ext cx="23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Q: 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그렇다면 왜 기술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런 식으로 진화하지 않았을까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해석적 유연성의 발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전거의 관련 사회집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생산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포츠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행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노인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Penny Farthing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자전거를 스포츠로 생각하던 젊고 부유한 남성들의 전유물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빠른 스피드가 최고의 가치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전은 부차적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과 노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전과 의상 문제 해결 필요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작은 앞바퀴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공기타이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작은 앞바퀴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공기타이어 자전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과 노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상 문제 해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낮고 진동 적은 안전자전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공기타이어는 자전거의 우아함 파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타이어의 공기 주입 상태 유지는 기술적으로 힘든 과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끄러짐 문제 있는데다 진동도 많이 줄이지 못함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포츠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느린 자전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높은 앞바퀴나 공기타이어를 해석하는 방식이 집단마다 다름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기술의 방향이 미리 결정된 것이 아님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584440"/>
            <a:ext cx="4103640" cy="390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2870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논쟁의 ‘종결’과 ‘안정화’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수사적 종결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종결이 되었다는 식의 광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바퀴가 높은 자전거도 안전하다는 식의 광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문제의 재정의에 의한 종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공기타이어가 스포츠 자전거 사용자에게도 선택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공기타이어가 경주에서 빠르다고 입증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진동문제의 해결책이 스피드 문제의 해결책으로 재정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핵심적인 문제점이 재정의됨으로써 논쟁이 종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논쟁의 종결은 기술 그 자체의 논리에 의한 것이라기보다는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기술을 둘러싼 사람들 사이의 일종의 협상과 타협 또는 합의의 과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이 합의 과정에서 문제의 재정의는 매우 중요한 합의 도출 방법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13T08:25:51Z</dcterms:modified>
  <cp:revision>385</cp:revision>
  <dc:subject/>
  <dc:title>중세 유럽의 과학</dc:title>
</cp:coreProperties>
</file>